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F067-F350-41E9-A963-5F33CFE3A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B4D8-7CDF-404A-AEB0-11DD0DB57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B0E7-F95D-423C-B367-151B8F27D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C886-A11E-4629-9464-4983A84D0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D7D2-D634-4308-B7A2-06BA8FDB7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128C-D4F8-4198-928A-A76FE1D4C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E72E-6F7B-48F8-83E5-86AC23D5C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B8F7-694B-4173-97E4-401F50EB8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B66B-362E-4334-8CEA-221C98877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27D6-29D2-4A91-BDD9-D56CB28B0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D89D-E16E-4D06-ABBC-AFA2B4643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1D61-A7A0-49BC-AF74-95C838DE5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66696-5CDA-4C6E-8217-20FFFA6B4C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92 Z lásky zdroja svojho, Pa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 lásky zdroja svojho, Pan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vlaž naše srdcia sá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by skvitol požehnane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šírošíry sveta lá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ane náš, Otče náš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uchom svojím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ľud svoj zvla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ádej vlieva Slovo tvoje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uši hriechom zmámenej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íťazné viesť pomôž boje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 zbroji Ducha bezpečne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ane náš, Otče náš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rž nad nami stálu strá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že, ty si večný, stály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ľuby svoje nemení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ásky tvojej vzácne dar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uchom svojím rozhojníš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ane náš, Otče náš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rosou z neba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ľud svoj zvla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uchom svojím, Bože svätý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ôsob mocne, srdcia zmeň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by ľud tvoj láskou spätý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eba chválil deň čo deň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ane náš, Otče náš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ajúcich rád prijímaš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2-05T20:56:08Z</dcterms:modified>
  <cp:revision>18</cp:revision>
  <dc:subject/>
  <dc:title>Je veľký náš Pán, on slávy je Kráľ Nech do všetkých strán  spev vrúcnych znie chvál.</dc:title>
</cp:coreProperties>
</file>